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EAB-5570-4690-911D-76273FA6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AE2-6D46-404D-9705-DECB5FFC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474-AA19-47BB-96B0-42BC629F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88F-2239-43D1-B178-C5340323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D57C-1131-405A-ABA3-1DD2CC15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5FFF-B9AA-4D29-890B-5D9809A2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B851-F1D8-459D-8BA5-67490C08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B9D0-1354-420D-9F25-4A2E9341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38D0-C433-4805-A646-05B865D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9E8A-5DA9-4843-9759-BE8BF0FA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56E9-42B7-48FD-8BC8-37AB0A84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6AC-2F6F-44FF-8518-9DC5861B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4FE-3314-4FD7-B8D5-7EE62F3D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C1F-215E-4E75-9414-8ADC6E3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DA54-4A5C-4111-9342-25ED4139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9DFA-8085-49F5-9AFE-5E67F35E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F5B-798F-4428-8C6D-79C9CB77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0A3F2-16B7-49CA-8B42-AAE3D23A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79A5D-2C75-4E9E-8763-B6D62340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A27AE-59FB-4B57-B227-586C60E8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34ED2-2729-44E8-88BA-24915F5F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9D49C-8579-4FB1-9A94-7F01E0A4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C88-6793-44C9-8DBC-A8CAA9D4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62525-7355-42BD-A7B6-62081DDF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16C33-9107-4337-BDFB-4BD8160C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1737E-AA93-45BF-8E5F-D232C334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3279D-52BA-4217-8848-84FE3732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EC795-EEA7-424A-80A0-61CD40B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D2D58-C360-4CCF-A352-E01DB3C7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1FC72-7D39-4E4F-B154-A6869A4F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4B373-1FCB-47C4-9A56-FF31ECEC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B04E-FAE4-4B22-B387-FA32F6B9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AEC9-AEA6-4E8B-8BD0-89896712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89A-B057-4283-A579-5F76D47F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94CA-4F00-484D-B54A-163B19D6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BDAC-7980-4D96-B9A7-AD9CC07D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5077-A1F0-4834-9875-10365579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8CD5-E0B5-4B7C-A9E8-178A963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CD00-84BD-4387-AEBE-6A68377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C0FE-12DD-42BE-A746-17D1E967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D0A6-5129-40F8-AC01-D4D7BA5C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5CD3-7F75-4191-8055-745660DD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0548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52120" y="258120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5884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0548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52120" y="4617720"/>
            <a:ext cx="242496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273E-D703-45FD-ACE5-9AD2BF29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3BE-F694-4725-BEE0-B37D0039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8480" y="1141200"/>
            <a:ext cx="780588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632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AC1-08E7-40AE-81F7-2040921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C72-7E07-43F5-9D37-D2B1A2C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7680" y="461772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852-EC88-4054-B33E-D5C9200F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884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7680" y="2581200"/>
            <a:ext cx="367488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8840" y="4617720"/>
            <a:ext cx="7531200" cy="185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436-1E5C-4787-A698-BDD5E75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629640" y="-360"/>
            <a:ext cx="11619360" cy="7908120"/>
            <a:chOff x="-629640" y="-360"/>
            <a:chExt cx="11619360" cy="7908120"/>
          </a:xfrm>
        </p:grpSpPr>
        <p:grpSp>
          <p:nvGrpSpPr>
            <p:cNvPr id="1" name="Group 44"/>
            <p:cNvGrpSpPr/>
            <p:nvPr/>
          </p:nvGrpSpPr>
          <p:grpSpPr>
            <a:xfrm>
              <a:off x="86760" y="-360"/>
              <a:ext cx="10159200" cy="7620480"/>
              <a:chOff x="86760" y="-360"/>
              <a:chExt cx="10159200" cy="76204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6760" y="0"/>
                <a:ext cx="2793600" cy="7620120"/>
                <a:chOff x="86760" y="0"/>
                <a:chExt cx="2793600" cy="762012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1102680" y="0"/>
                  <a:ext cx="177768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867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40560" y="0"/>
                  <a:ext cx="8463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56560" y="0"/>
                <a:ext cx="2793600" cy="7620120"/>
                <a:chOff x="556560" y="0"/>
                <a:chExt cx="2793600" cy="762012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572480" y="0"/>
                  <a:ext cx="177768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565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810360" y="0"/>
                  <a:ext cx="8463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7452360" y="-360"/>
                <a:ext cx="2793600" cy="7620120"/>
                <a:chOff x="7452360" y="-360"/>
                <a:chExt cx="2793600" cy="762012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7452360" y="-360"/>
                  <a:ext cx="177768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973800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9145800" y="-360"/>
                  <a:ext cx="8463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4319640" y="0"/>
                <a:ext cx="31323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330372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557880" y="0"/>
                <a:ext cx="8463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73440" y="5594760"/>
              <a:ext cx="1015920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73440" y="3853080"/>
              <a:ext cx="1015920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60120" y="6267600"/>
              <a:ext cx="333792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73440" y="5871960"/>
              <a:ext cx="1015920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461680" y="5702400"/>
              <a:ext cx="775764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414960" y="31766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4219200" y="45842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4230000" y="17690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394080" y="3614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5044680" y="598140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3768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13400" y="60026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45080" y="316620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949320" y="45842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764360" y="60130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785240" y="317664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970560" y="173736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7648200" y="46054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8473680" y="60238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8473680" y="3187080"/>
              <a:ext cx="1779120" cy="1542240"/>
            </a:xfrm>
            <a:prstGeom prst="hexagon">
              <a:avLst>
                <a:gd name="adj" fmla="val 28546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9315000" y="4506480"/>
              <a:ext cx="138132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9315360" y="1679040"/>
              <a:ext cx="137952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507960" y="369720"/>
            <a:ext cx="9144000" cy="6874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5067360" y="-23760"/>
            <a:ext cx="4089240" cy="77616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5165640" y="-23760"/>
            <a:ext cx="3894120" cy="6937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664320" y="24876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5157720" y="6501960"/>
            <a:ext cx="389088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5165640" y="248760"/>
            <a:ext cx="1479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B5A5-BD6C-4C47-A72C-004972CF3C57}" type="slidenum">
              <a:rPr b="0" lang="en-US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717120" y="-360"/>
            <a:ext cx="11621160" cy="7908480"/>
            <a:chOff x="-717120" y="-360"/>
            <a:chExt cx="11621160" cy="7908480"/>
          </a:xfrm>
        </p:grpSpPr>
        <p:grpSp>
          <p:nvGrpSpPr>
            <p:cNvPr id="84" name="Group 44"/>
            <p:cNvGrpSpPr/>
            <p:nvPr/>
          </p:nvGrpSpPr>
          <p:grpSpPr>
            <a:xfrm>
              <a:off x="-360" y="-360"/>
              <a:ext cx="10160280" cy="7620480"/>
              <a:chOff x="-360" y="-360"/>
              <a:chExt cx="10160280" cy="762048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-360" y="0"/>
                <a:ext cx="2793960" cy="7620120"/>
                <a:chOff x="-360" y="0"/>
                <a:chExt cx="2793960" cy="762012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10155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-3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534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69440" y="0"/>
                <a:ext cx="2793960" cy="7620120"/>
                <a:chOff x="469440" y="0"/>
                <a:chExt cx="2793960" cy="762012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4853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6944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7232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7365960" y="-360"/>
                <a:ext cx="2793960" cy="7620120"/>
                <a:chOff x="7365960" y="-360"/>
                <a:chExt cx="2793960" cy="762012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7365960" y="-36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965196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9059400" y="-36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4233240" y="0"/>
                <a:ext cx="3132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321696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471120" y="0"/>
                <a:ext cx="846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3680" y="5594760"/>
              <a:ext cx="1016064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3680" y="3853080"/>
              <a:ext cx="1016064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6640" y="6267600"/>
              <a:ext cx="333828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3680" y="5871960"/>
              <a:ext cx="1016064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374560" y="5702400"/>
              <a:ext cx="775908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332820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41328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4143240" y="17690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3306960" y="3614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958280" y="59814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42516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5920" y="6002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7600" y="31662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8622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677240" y="6013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69812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883440" y="173736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7561800" y="46054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8387640" y="60238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8387640" y="3187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9228960" y="4506120"/>
              <a:ext cx="138168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9229320" y="1679400"/>
              <a:ext cx="137988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5067360" y="-23760"/>
            <a:ext cx="4089240" cy="69692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5165640" y="-23760"/>
            <a:ext cx="3894120" cy="257004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5265720" y="1685520"/>
            <a:ext cx="2370240" cy="833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892840" y="6354360"/>
            <a:ext cx="31464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5165280" y="6354360"/>
            <a:ext cx="714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F2EB-77E9-45AD-9CC4-BFF889074C06}" type="slidenum">
              <a:rPr b="0" lang="en-US" sz="13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717120" y="-360"/>
            <a:ext cx="11621160" cy="7908480"/>
            <a:chOff x="-717120" y="-360"/>
            <a:chExt cx="11621160" cy="7908480"/>
          </a:xfrm>
        </p:grpSpPr>
        <p:grpSp>
          <p:nvGrpSpPr>
            <p:cNvPr id="168" name="Group 61"/>
            <p:cNvGrpSpPr/>
            <p:nvPr/>
          </p:nvGrpSpPr>
          <p:grpSpPr>
            <a:xfrm>
              <a:off x="-360" y="-360"/>
              <a:ext cx="10160280" cy="7620480"/>
              <a:chOff x="-360" y="-360"/>
              <a:chExt cx="10160280" cy="762048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-360" y="0"/>
                <a:ext cx="2793960" cy="7620120"/>
                <a:chOff x="-360" y="0"/>
                <a:chExt cx="2793960" cy="762012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10155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-3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534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69440" y="0"/>
                <a:ext cx="2793960" cy="7620120"/>
                <a:chOff x="469440" y="0"/>
                <a:chExt cx="2793960" cy="762012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4853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6944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7232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7365960" y="-360"/>
                <a:ext cx="2793960" cy="7620120"/>
                <a:chOff x="7365960" y="-360"/>
                <a:chExt cx="2793960" cy="762012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7365960" y="-36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965196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9059400" y="-36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4233240" y="0"/>
                <a:ext cx="3132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321696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471120" y="0"/>
                <a:ext cx="846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3680" y="5594760"/>
              <a:ext cx="1016064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3680" y="3853080"/>
              <a:ext cx="1016064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6640" y="6267600"/>
              <a:ext cx="333828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3680" y="5871960"/>
              <a:ext cx="1016064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374560" y="5702400"/>
              <a:ext cx="775908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332820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41328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4143240" y="17690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3306960" y="3614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958280" y="59814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42516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5920" y="6002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7600" y="31662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8622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677240" y="6013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69812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883440" y="173736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7561800" y="46054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8387640" y="60238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8387640" y="3187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9228960" y="4506120"/>
              <a:ext cx="138168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9229320" y="1679400"/>
              <a:ext cx="137988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5067360" y="-23760"/>
            <a:ext cx="4089240" cy="69692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5165640" y="-23760"/>
            <a:ext cx="3894120" cy="6937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1006560" y="668160"/>
            <a:ext cx="3957480" cy="6277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6664320" y="24876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5165640" y="248760"/>
            <a:ext cx="1479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DF2-CFA6-4F6D-928E-6D8DA00DE5C3}" type="slidenum">
              <a:rPr b="0" lang="en-US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5157720" y="6361200"/>
            <a:ext cx="388152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717120" y="-360"/>
            <a:ext cx="11621160" cy="7908480"/>
            <a:chOff x="-717120" y="-360"/>
            <a:chExt cx="11621160" cy="7908480"/>
          </a:xfrm>
        </p:grpSpPr>
        <p:grpSp>
          <p:nvGrpSpPr>
            <p:cNvPr id="252" name="Group 61"/>
            <p:cNvGrpSpPr/>
            <p:nvPr/>
          </p:nvGrpSpPr>
          <p:grpSpPr>
            <a:xfrm>
              <a:off x="-360" y="-360"/>
              <a:ext cx="10160280" cy="7620480"/>
              <a:chOff x="-360" y="-360"/>
              <a:chExt cx="10160280" cy="762048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-360" y="0"/>
                <a:ext cx="2793960" cy="7620120"/>
                <a:chOff x="-360" y="0"/>
                <a:chExt cx="2793960" cy="762012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10155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-36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534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69440" y="0"/>
                <a:ext cx="2793960" cy="7620120"/>
                <a:chOff x="469440" y="0"/>
                <a:chExt cx="2793960" cy="762012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485360" y="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69440" y="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723240" y="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7365960" y="-360"/>
                <a:ext cx="2793960" cy="7620120"/>
                <a:chOff x="7365960" y="-360"/>
                <a:chExt cx="2793960" cy="762012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7365960" y="-360"/>
                  <a:ext cx="177804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9651960" y="-360"/>
                  <a:ext cx="50796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9059400" y="-360"/>
                  <a:ext cx="846720" cy="762012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4233240" y="0"/>
                <a:ext cx="3132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3216960" y="0"/>
                <a:ext cx="50796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471120" y="0"/>
                <a:ext cx="846720" cy="76201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3680" y="5594760"/>
              <a:ext cx="10160640" cy="13060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3680" y="3853080"/>
              <a:ext cx="10160640" cy="989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6640" y="6267600"/>
              <a:ext cx="3338280" cy="134568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3680" y="5871960"/>
              <a:ext cx="10160640" cy="164268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374560" y="5702400"/>
              <a:ext cx="7759080" cy="1910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332820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41328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4143240" y="17690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3306960" y="3614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958280" y="59814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425160" y="4668480"/>
              <a:ext cx="1401480" cy="15422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5920" y="6002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7600" y="316620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862200" y="45842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677240" y="6013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698120" y="317664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883440" y="173736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7561800" y="46054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8387640" y="60238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8387640" y="3187080"/>
              <a:ext cx="1779480" cy="1542240"/>
            </a:xfrm>
            <a:prstGeom prst="hexagon">
              <a:avLst>
                <a:gd name="adj" fmla="val 28552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9228960" y="4506120"/>
              <a:ext cx="1381680" cy="15422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9229320" y="1679400"/>
              <a:ext cx="1379880" cy="154296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5067360" y="-23760"/>
            <a:ext cx="4089240" cy="696924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5165640" y="-23760"/>
            <a:ext cx="3894120" cy="69372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1006560" y="668160"/>
            <a:ext cx="3957480" cy="627732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5167440" y="6764400"/>
            <a:ext cx="3895560" cy="9036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8480" y="1141200"/>
            <a:ext cx="780588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158840" y="2581200"/>
            <a:ext cx="7531200" cy="389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709560" indent="-30312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2" marL="10144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3" marL="124920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4" marL="1471680" indent="-252360">
              <a:spcBef>
                <a:spcPts val="6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5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6" marL="1471680" indent="-252360">
              <a:spcBef>
                <a:spcPts val="675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6664320" y="24876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5157720" y="6361200"/>
            <a:ext cx="388152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5165640" y="248760"/>
            <a:ext cx="1479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1A5-C8F0-42CF-8255-E6F0F46C75FC}" type="slidenum">
              <a:rPr b="0" lang="en-US" sz="13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makes a person rich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ngible riche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ved one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ntions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wing fire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angible riches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rk nigh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y in a family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ppy smile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rmth of a spirit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511200" y="5184720"/>
            <a:ext cx="3611520" cy="2316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5794200" y="5184720"/>
            <a:ext cx="2559240" cy="2435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http://mychinaconnection.com/wp-content/uploads/2010/12/christmas-carol-scrooge.jpg"/>
          <p:cNvPicPr/>
          <p:nvPr/>
        </p:nvPicPr>
        <p:blipFill>
          <a:blip r:embed="rId3"/>
          <a:stretch/>
        </p:blipFill>
        <p:spPr>
          <a:xfrm>
            <a:off x="7975440" y="533520"/>
            <a:ext cx="2087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oshiba</cp:lastModifiedBy>
  <dcterms:modified xsi:type="dcterms:W3CDTF">2011-12-02T23:37:28Z</dcterms:modified>
  <cp:revision>2</cp:revision>
  <dc:subject/>
  <dc:title>PowerPoint Presentation</dc:title>
</cp:coreProperties>
</file>